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f5f5f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808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f5f5f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umizmatik.ru/aukcion/images/9550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bombards.narod.ru/57mm_mortar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ombards.narod.ru/russian_infantry2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bombards.narod.ru/37mm_aa_rus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808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f5f5f"/>
                </a:solidFill>
                <a:latin typeface="Comic Sans MS"/>
              </a:rPr>
              <a:t>Мои прадедушки</a:t>
            </a:r>
            <a:endParaRPr b="1" lang="en-US" sz="44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6095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Comic Sans MS"/>
              </a:rPr>
              <a:t>©</a:t>
            </a:r>
            <a:r>
              <a:rPr b="0" lang="ru-RU" sz="2400" spc="-1" strike="noStrike">
                <a:solidFill>
                  <a:srgbClr val="5f5f5f"/>
                </a:solidFill>
                <a:latin typeface="Comic Sans MS"/>
              </a:rPr>
              <a:t>Комиссаров Кирилл, 5б</a:t>
            </a:r>
            <a:endParaRPr b="0" lang="en-US" sz="2400" spc="-1" strike="noStrike">
              <a:solidFill>
                <a:srgbClr val="5f5f5f"/>
              </a:solidFill>
              <a:latin typeface="Comic Sans MS"/>
            </a:endParaRPr>
          </a:p>
        </p:txBody>
      </p:sp>
      <p:pic>
        <p:nvPicPr>
          <p:cNvPr id="40" name="" descr="Картинка 4 из 10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Картинка 3 из 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24480" y="0"/>
            <a:ext cx="28195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808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449280"/>
            <a:ext cx="5029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f5f5f"/>
                </a:solidFill>
                <a:latin typeface="Comic Sans MS"/>
              </a:rPr>
              <a:t>Как же мне промолчать,</a:t>
            </a:r>
            <a:br>
              <a:rPr sz="2000"/>
            </a:br>
            <a:r>
              <a:rPr b="1" i="1" lang="en-US" sz="2000" spc="-1" strike="noStrike">
                <a:solidFill>
                  <a:srgbClr val="5f5f5f"/>
                </a:solidFill>
                <a:latin typeface="Comic Sans MS"/>
              </a:rPr>
              <a:t>не писать о войне? </a:t>
            </a:r>
            <a:br>
              <a:rPr sz="2000"/>
            </a:br>
            <a:r>
              <a:rPr b="1" i="1" lang="en-US" sz="2000" spc="-1" strike="noStrike">
                <a:solidFill>
                  <a:srgbClr val="5f5f5f"/>
                </a:solidFill>
                <a:latin typeface="Comic Sans MS"/>
              </a:rPr>
              <a:t>Если болью она остается во мне. 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5f5f5f"/>
                </a:solidFill>
                <a:latin typeface="Comic Sans MS"/>
              </a:rPr>
              <a:t>Как же мне позабыть, </a:t>
            </a:r>
            <a:br>
              <a:rPr sz="2000"/>
            </a:br>
            <a:r>
              <a:rPr b="1" i="1" lang="en-US" sz="2000" spc="-1" strike="noStrike">
                <a:solidFill>
                  <a:srgbClr val="5f5f5f"/>
                </a:solidFill>
                <a:latin typeface="Comic Sans MS"/>
              </a:rPr>
              <a:t>не писать о войне?</a:t>
            </a:r>
            <a:br>
              <a:rPr sz="2000"/>
            </a:br>
            <a:r>
              <a:rPr b="1" i="1" lang="en-US" sz="2000" spc="-1" strike="noStrike">
                <a:solidFill>
                  <a:srgbClr val="5f5f5f"/>
                </a:solidFill>
                <a:latin typeface="Comic Sans MS"/>
              </a:rPr>
              <a:t>Если золотом буквы на белой стене </a:t>
            </a:r>
            <a:br>
              <a:rPr sz="2000"/>
            </a:br>
            <a:r>
              <a:rPr b="1" i="1" lang="en-US" sz="2000" spc="-1" strike="noStrike">
                <a:solidFill>
                  <a:srgbClr val="5f5f5f"/>
                </a:solidFill>
                <a:latin typeface="Comic Sans MS"/>
              </a:rPr>
              <a:t>Повторяют бессчётно солдат имена </a:t>
            </a:r>
            <a:br>
              <a:rPr sz="2000"/>
            </a:br>
            <a:r>
              <a:rPr b="1" i="1" lang="en-US" sz="2000" spc="-1" strike="noStrike">
                <a:solidFill>
                  <a:srgbClr val="5f5f5f"/>
                </a:solidFill>
                <a:latin typeface="Comic Sans MS"/>
              </a:rPr>
              <a:t>Тех, которых навеки украла война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f5f5f"/>
                </a:solidFill>
                <a:latin typeface="Comic Sans MS"/>
              </a:rPr>
              <a:t>Алла Белова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Картинка 2 из 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035600"/>
            <a:ext cx="5562720" cy="2822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Картинка 4 из 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83240" y="0"/>
            <a:ext cx="35607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808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f5f5f"/>
                </a:solidFill>
                <a:latin typeface="Comic Sans MS"/>
              </a:rPr>
              <a:t>Советско-финская война</a:t>
            </a:r>
            <a:endParaRPr b="1" lang="en-US" sz="44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8686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Comic Sans MS"/>
              </a:rPr>
              <a:t>Советско-финская война продолжалась с 30 ноября 1939 года по 13 марта 1940 года.</a:t>
            </a:r>
            <a:endParaRPr b="0" lang="en-US" sz="2800" spc="-1" strike="noStrike">
              <a:solidFill>
                <a:srgbClr val="5f5f5f"/>
              </a:solidFill>
              <a:latin typeface="Comic Sans MS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2770200" cy="4267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86200" y="2514600"/>
            <a:ext cx="495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f5f5f"/>
                </a:solidFill>
                <a:latin typeface="Comic Sans MS"/>
              </a:rPr>
              <a:t>24 февраля 1940 года (за 17 дней до окончания войны) в боях под городом Питкяранта погиб мой прадедушка Белов Михаил Сергееви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500"/>
                            </p:stCondLst>
                            <p:childTnLst>
                              <p:par>
                                <p:cTn id="45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808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1166760"/>
            <a:ext cx="85341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808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14600" y="-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25104" t="19160" r="26719" b="6301"/>
          <a:stretch/>
        </p:blipFill>
        <p:spPr>
          <a:xfrm>
            <a:off x="1658880" y="0"/>
            <a:ext cx="554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808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962520" y="411120"/>
            <a:ext cx="4952880" cy="71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mic Sans MS"/>
              </a:rPr>
              <a:t>22 января 1945 года погиб мой второй прадедушка Тимошин Семён Николаевич.Он ушёл на фронт добровольцем 27 июля 1941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mic Sans MS"/>
              </a:rPr>
              <a:t>До победы оставалось совсем немного. Дома ждали и надеялись. Но почтальон принёс похорон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mic Sans MS"/>
              </a:rPr>
              <a:t>Моей бабушке тогда было шесть лет, а сейчас 68, но она очень хорошо помнит как кричала её мама, получив похорон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mic Sans MS"/>
              </a:rPr>
              <a:t>А летом 1945 года в гости к ним приехал товарищ прадеда, на руках которого тот умер. Рассказал о последнем бое, где и как похоронил его. Привез документы и награды, письмо товарищей семь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3532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808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38080" y="533520"/>
            <a:ext cx="7772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г. Черняховск (ул. Спортивная) Калинингра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858000" cy="51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808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09480" y="514440"/>
            <a:ext cx="769644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дежда</cp:lastModifiedBy>
  <dcterms:modified xsi:type="dcterms:W3CDTF">2008-12-15T19:34:06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